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190-99EE-4C5B-BDD5-64779FA7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920A-9158-444C-8C8D-0C69BD1D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311-6435-4D0D-80C3-A3C92B74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847-BB01-444C-8CD2-4379D58A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D69-E2B8-4077-9222-323DE8F7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295-F39A-40AC-B710-DD3D6B48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2044-05DB-4EA9-A4D2-354A3199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96ED-E568-4177-8E2C-FB5F6216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868-777E-493B-B669-A2537207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745-CF1F-4636-BB3D-A1AEED65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2F4-B90F-4F45-9AD3-DC2EB803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F17-6763-4B11-8725-637B7CC8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D367-EA57-4D74-9D50-3EC25D21640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2360" y="1773360"/>
            <a:ext cx="864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رتفع أبصارهم دون أن تطر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سر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363600" y="1052640"/>
            <a:ext cx="8529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324000" y="479736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تكلم عن الكافري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4103640" y="1052640"/>
            <a:ext cx="47894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4"/>
          <a:stretch/>
        </p:blipFill>
        <p:spPr>
          <a:xfrm>
            <a:off x="2262240" y="2492280"/>
            <a:ext cx="664056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5"/>
          <a:stretch/>
        </p:blipFill>
        <p:spPr>
          <a:xfrm>
            <a:off x="1487520" y="4076640"/>
            <a:ext cx="7415280" cy="5842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141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له ليمهل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324000" y="1700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رف العبادة لغير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205000"/>
            <a:ext cx="86025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884320" y="4819680"/>
            <a:ext cx="35179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1020600"/>
            <a:ext cx="88171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45352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71520" y="413064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61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-15840" y="981000"/>
            <a:ext cx="9105840" cy="935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6480" y="1179360"/>
            <a:ext cx="37018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عاقبة الكافرين المكذبين يوم القيا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653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لوبهم خالية من العقل لفزع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626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لفتم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1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وف الكف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ظ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قبة الظالم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92280"/>
            <a:ext cx="8666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عا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لا تخفى عليه خافية غير غافل عن أعماله عباده بل يعلمها ويحصيها عليهم ويحاسبهم عليها يوم القيا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3357720"/>
            <a:ext cx="866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يوم القيامة على الكافرين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دة يوم القيامة عليهم وما سيكونون عليه من الذلة والصغ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203720"/>
            <a:ext cx="86662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الكافرين المكذبي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دم حتى إنهم يتمنون العودة إلى الدنيا مرة أخرى ليؤمنوا وما هم ب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9068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ر الكافرين و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ظيم حتى إنه من شدته وخبثه يكاد يزيل الجبال عن أماكن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9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بط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ر الكافرين مهما خفي وأُحك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04840" y="170028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أنهم حلفوا في الدنيا أنه لا بعث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أنهم سكنوا مساك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ه عرفوا ماذا فعل الله ب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ذكر الله لهم الأمثال ولم يأخذوا منها ال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3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2360" y="1844640"/>
            <a:ext cx="8640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نذار والتبش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392040" y="1039680"/>
            <a:ext cx="85629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8T09:00:33Z</dcterms:modified>
  <cp:revision>1865</cp:revision>
  <dc:subject/>
  <dc:title>عرض تقديمي في PowerPoint</dc:title>
</cp:coreProperties>
</file>